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EA15-6DE2-49D8-8FA8-100847A3F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4927-57AF-43F7-A960-FE505513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67276-9CCA-4CDA-8EAC-8062C95D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8E8EB-E104-4D76-8077-E7F8EB39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9C033-2FC6-4A78-9BC4-6624BE21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35710-E1AE-40F5-9843-CF6C40DF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BE189-38F6-443B-AFF2-79DDB3F2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2C2FB-0114-48B3-BDF9-9E37860E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D9205-4665-4605-B58F-FCDF2010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2E533-F774-4B9B-89AB-2E4F3738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C25E3-391D-4C08-A4CB-D12629CE6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33E7B-5319-4EBF-A05B-A1C6935D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295F-19F7-42ED-AE9B-720827B8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E6DAD-41B5-4788-8935-35AEE142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0794D-B650-426F-8E7B-365040C4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18BD79-CA5B-49C3-92BA-14BCF411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0D735-B51F-434A-B02B-1AEAEA34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93E89-617F-4F4A-9F5E-C5507C32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4CF48-38EE-47C8-A36B-30AB52AC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AC083-500D-4BC8-84D3-D60B179C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09F89-F46B-4ACF-860A-6125B485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F0D32A-0967-4C39-89CE-EA858728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7286AC-9F01-4901-97B7-7B471EA15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EE22-29A3-4B75-86E5-11FA45E8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7F3DB-F009-4189-8FCD-BF40FE425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89B20-B93A-4F3E-8AFB-DCE42588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11B6B-9087-4F1C-9D22-BDD6E495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E4E09-842B-407E-B4EB-0D01A475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B3219-6078-4D8B-9322-06B7E91B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32574-6285-4F52-8D44-347B7B13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AAC27-522C-4128-AFD9-0635F15C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6D641-9F1D-4215-8E64-AADA7A34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A8F9D-F53F-4538-B5C9-7A7979C1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96092-351B-4BD8-95AE-00F632CD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48A9-D1F2-4DE1-9C84-BDF637F3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5F5A8-D8C6-4DA8-9983-A89FD8F7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8F47E-81A3-4778-92FD-42E730045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86080-BAEB-4D1C-9376-FC24611EA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70590-AD91-4DFB-A326-80EAAA18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CFC1CA-8C72-4BB9-A94C-6E4E92B4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33CC7-534C-4C17-A768-E7AFAE78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36B89-F8C3-4771-9089-B2DC5417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CD130B-7C78-4105-88BD-A1718649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0384B7-3493-45E6-A61D-9B689B95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F95242-4317-4757-8B96-B35A1EDF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E18F-D631-4B19-8922-524FE6DF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0B6E53-6A66-4972-9F24-B2BD5F74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02F67-3083-47D1-B87B-86622714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D894B-A2CD-4683-A42E-9B593FB4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6FBD6-D301-43C0-8669-46C4D59DD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27C47-601D-45D1-9A2A-D7EEC94B4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1505-21F9-4FBB-BCE3-7B81F203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054D-A268-489E-B9AB-3C22A570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A70E-2AE4-4022-B8A6-141AA9E0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2BC7-1366-4192-8005-8268B380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0EEC-0901-4A42-822E-F0C012AB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F6D9-AA60-4368-9B61-569067A8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1690-E6FB-46B8-B947-C6189A7A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C328-128B-4F00-8F74-7E544B59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D1AA-B82C-402E-A647-95F552E0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AB73-04EA-48A2-BA6C-6427C90E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BF82-2793-4EFF-9E2F-7D215537E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9DEB1-53A7-4F7C-96E2-0D01AF933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3A368-5045-44E4-A123-A8A222F8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FC8A7-CF95-43DA-8645-BA734915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69CC8-9C5F-48D1-A38A-D4818913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D6571-5CFC-4020-A3F8-F3438199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AA8A-2E83-486F-A81A-BD8812D2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8614C-E405-4E14-ABB4-8718A8E0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8260E-083E-4D57-B855-8637482B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4F7D3-B47E-4B98-9F58-BBC1DB22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4FC4E-474F-49BC-8886-B0D6A304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F44CC-23D4-4B70-9106-A6959350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AEE24-1C6D-4957-9EBD-C0BF07C14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E20B0-54C8-4C14-8EDC-5ADAC0472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B5F7C-F903-434A-9F96-CF15DB87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2BA10-E5D9-4BC7-B3E0-19CAEFB2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8BBFC-EF7C-4170-8D1D-CFB94FD7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14B0-0ECB-4731-BFB8-1DD31200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4595F-5B7C-4918-9C2C-3C6BB1CB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92700-65E7-403B-A579-8FA584D6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63E7C-C7BA-46D5-AD33-B23EE195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D2285-E23D-4CB1-8F03-028E9CE6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CC469-9AFE-484D-ABB8-95D13B31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07C91-EF99-483C-AA01-9C978EE8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BAA87-81CF-4B11-8041-5B1ABAB5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F2078-1F26-4DEB-A800-8B149C8E8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F6ED3-26B8-4B05-8417-ED252A192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44E17-8D4E-4051-A5E6-0079E1544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0F2F-F8B0-4D53-991F-402DF3AF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B6370-BE76-41C9-B789-614300C4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49157-659A-4493-93EF-C7B1F5D2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AFBCE-D03D-434F-BE84-12C0E8B2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53AA8-FF4B-4E8B-BE25-A2240B46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A1593-1CA9-46CD-860C-80FA130E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C4941-C431-4F02-9E07-88063B32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AC2D1-E1A2-4F9A-95A4-97B9F4DB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1385D-87B9-4C36-864F-00AEFCC4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9E834-90E4-44E8-8617-48B80EB5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6DD73-C0D2-422A-BD70-498E0AD81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FA68-A99C-43F0-BFBC-44D1985F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8F785-36D6-477D-8E9B-37BB0AFF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7D360-838B-493A-B680-9734CF64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0C5A6-D654-4D28-9BBA-1366E5CB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D48EE-14FB-471E-A249-95EBA5DF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DE7BA-90A1-4840-B878-A985AEF2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50940-FE6D-409A-9BCA-848AD660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DA748-A33F-4E90-96F5-942E35A3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6790F-75AD-4E12-A94D-7691F51D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20B94-12A3-487F-8636-C427426C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41CA5-57CB-4E32-A488-1FF823ED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14F1-0A98-4C5B-A172-939CDF0C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8C300-5F8D-4BE4-B2A5-ABCC1D49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949C1-F9AD-4ED5-9B19-BEA5C5B6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66CEC-1775-4C36-9E9C-DBF782950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4A758-9C8A-4F2F-BDF6-BDE8E9FE2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1410D-C477-4612-A0F4-D6EBA251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5A78A-8CEA-4389-9692-5CCEFC0D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32EC6-072D-4D95-9349-B4B961DB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A9806-5410-45A3-BB8E-DF0462AC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3E59D-DC22-4EF1-B6B5-139608EA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9DF3B-33BD-4656-81E2-0C592023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D1D8-B103-4CDE-A68A-38C4D139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C0ABD-1079-4548-AF9E-DB087002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E5E18-900B-4FF6-B1B8-37F610F3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13147-C669-46DB-A5D6-20A04843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DCF57-B907-439F-A8ED-5B10863F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3A2FA-8012-4D00-BC10-76998EE8A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AF0A3-1714-4EBA-B9A3-EF8319E8C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B3501-312A-4CF7-85CC-C8DBCB94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9A090-2811-43B9-AD7D-A028DC27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724CC-9AB2-4DE5-ADC2-0FE43673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81646-F593-446F-9F69-822338F1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3BE5-3E2B-4863-AF92-B18470D1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83FE1-6C13-487B-A46C-13A19863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DB1BE-647D-412E-A90A-12288A12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A9468-42C2-40BE-AC71-346F4802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96151-A619-4F7E-A3E4-CA0187A0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D7F55-EE9D-4D9B-BF19-72BB6290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129D8-BBB9-4981-937C-27E4E24F3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23C1C-D032-41B8-AF18-E1A793D4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A3F50-A053-4AC4-B948-B53E9DFE6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ACDC0-5F6E-4D03-8731-9607F0F2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92C83-00D6-48B7-AD4F-AC52CF60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F25D-2C1F-42FC-9104-8D55419875B7}" type="slidenum">
              <a:rPr b="0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8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9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30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333B-EF02-4446-B51C-0D01A84599B0}" type="slidenum">
              <a:rPr b="0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CD6D-0CEC-447E-82B7-5E966535A564}" type="slidenum">
              <a:rPr b="0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34AA-1271-488F-A8AB-6625CF4302E0}" type="slidenum">
              <a:rPr b="0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DD8D-1062-4C57-BEA6-88CBCD9840A5}" type="slidenum">
              <a:rPr b="0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8E9B-F5D4-4889-BDD4-9743BBF622B7}" type="slidenum">
              <a:rPr b="0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FF2C-DD7E-4788-8135-009752D3018B}" type="slidenum">
              <a:rPr b="0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A695-7553-4C95-98AC-06BC802ECE0D}" type="slidenum">
              <a:rPr b="0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C373-32B4-469D-818A-0506798022A2}" type="slidenum">
              <a:rPr b="0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9F61-37E5-4928-86A6-EA0E207F8E4A}" type="slidenum">
              <a:rPr b="0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B120-5D15-4053-8538-F6226225E4FF}" type="slidenum">
              <a:rPr b="0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5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6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7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D592-D5AF-4B9D-B726-373584A053C3}" type="slidenum">
              <a:rPr b="0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908000" y="90792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CINEMATICA</a:t>
            </a:r>
            <a:br>
              <a:rPr sz="3200"/>
            </a:br>
            <a:br>
              <a:rPr sz="2000"/>
            </a:b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61760" y="1700280"/>
            <a:ext cx="7481880" cy="4395600"/>
          </a:xfrm>
          <a:prstGeom prst="rect">
            <a:avLst/>
          </a:prstGeom>
          <a:solidFill>
            <a:srgbClr val="20ff2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Magnitudes física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66"/>
                </a:solidFill>
                <a:uFillTx/>
                <a:latin typeface="Arial"/>
              </a:rPr>
              <a:t>Sistema de referenci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0000"/>
                </a:solidFill>
                <a:uFillTx/>
                <a:latin typeface="Arial"/>
              </a:rPr>
              <a:t>Desplazamiento y espacio recorrid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66"/>
                </a:solidFill>
                <a:uFillTx/>
                <a:latin typeface="Arial"/>
              </a:rPr>
              <a:t>Rapidez medi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66"/>
                </a:solidFill>
                <a:uFillTx/>
                <a:latin typeface="Arial"/>
              </a:rPr>
              <a:t>Velocidad medi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66"/>
                </a:solidFill>
                <a:uFillTx/>
                <a:latin typeface="Arial"/>
              </a:rPr>
              <a:t>Velocidad promedi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66"/>
                </a:solidFill>
                <a:uFillTx/>
                <a:latin typeface="Arial"/>
              </a:rPr>
              <a:t>Aceleracion medi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1 CuadroTexto" descr=""/>
          <p:cNvPicPr/>
          <p:nvPr/>
        </p:nvPicPr>
        <p:blipFill>
          <a:blip r:embed="rId1"/>
          <a:stretch/>
        </p:blipFill>
        <p:spPr>
          <a:xfrm>
            <a:off x="219240" y="285840"/>
            <a:ext cx="3127320" cy="3047760"/>
          </a:xfrm>
          <a:prstGeom prst="rect">
            <a:avLst/>
          </a:prstGeom>
          <a:ln w="0">
            <a:noFill/>
          </a:ln>
        </p:spPr>
      </p:pic>
      <p:cxnSp>
        <p:nvCxnSpPr>
          <p:cNvPr id="507" name="3 Conector recto de flecha"/>
          <p:cNvCxnSpPr>
            <a:stCxn id="506" idx="3"/>
          </p:cNvCxnSpPr>
          <p:nvPr/>
        </p:nvCxnSpPr>
        <p:spPr>
          <a:xfrm>
            <a:off x="3281040" y="1044360"/>
            <a:ext cx="1794600" cy="1080"/>
          </a:xfrm>
          <a:prstGeom prst="straightConnector1">
            <a:avLst/>
          </a:prstGeom>
          <a:ln w="44280">
            <a:solidFill>
              <a:srgbClr val="000066"/>
            </a:solidFill>
            <a:miter/>
            <a:tailEnd len="lg" type="arrow" w="lg"/>
          </a:ln>
        </p:spPr>
      </p:cxnSp>
      <p:pic>
        <p:nvPicPr>
          <p:cNvPr id="508" name="26 CuadroTexto" descr=""/>
          <p:cNvPicPr/>
          <p:nvPr/>
        </p:nvPicPr>
        <p:blipFill>
          <a:blip r:embed="rId2"/>
          <a:stretch/>
        </p:blipFill>
        <p:spPr>
          <a:xfrm>
            <a:off x="4986360" y="244440"/>
            <a:ext cx="3779640" cy="4383000"/>
          </a:xfrm>
          <a:prstGeom prst="rect">
            <a:avLst/>
          </a:prstGeom>
          <a:ln w="0">
            <a:noFill/>
          </a:ln>
        </p:spPr>
      </p:pic>
      <p:sp>
        <p:nvSpPr>
          <p:cNvPr id="509" name="6 CuadroTexto"/>
          <p:cNvSpPr/>
          <p:nvPr/>
        </p:nvSpPr>
        <p:spPr>
          <a:xfrm>
            <a:off x="179280" y="3025800"/>
            <a:ext cx="4543560" cy="2117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VECTORIALES</a:t>
            </a: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Aquellas que se definen conociendo su Magnitud, dirección, sentido y unidad de medida. 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Ej: Desplazamiento, velocidad,</a:t>
            </a:r>
            <a:r>
              <a:rPr b="1" lang="es-ES_tradnl" sz="1600" spc="-1" strike="noStrike">
                <a:solidFill>
                  <a:srgbClr val="000066"/>
                </a:solidFill>
                <a:latin typeface="Arial"/>
              </a:rPr>
              <a:t> aceleración, fuerza, </a:t>
            </a: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peso.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510" name="10 Conector recto de flecha"/>
          <p:cNvCxnSpPr>
            <a:stCxn id="506" idx="2"/>
          </p:cNvCxnSpPr>
          <p:nvPr/>
        </p:nvCxnSpPr>
        <p:spPr>
          <a:xfrm>
            <a:off x="1782720" y="1798200"/>
            <a:ext cx="16560" cy="1227960"/>
          </a:xfrm>
          <a:prstGeom prst="straightConnector1">
            <a:avLst/>
          </a:prstGeom>
          <a:ln w="44280">
            <a:solidFill>
              <a:srgbClr val="000066"/>
            </a:solidFill>
            <a:miter/>
            <a:tailEnd len="lg" type="arrow" w="lg"/>
          </a:ln>
        </p:spPr>
      </p:cxnSp>
      <p:sp>
        <p:nvSpPr>
          <p:cNvPr id="511" name="32 CuadroTexto"/>
          <p:cNvSpPr/>
          <p:nvPr/>
        </p:nvSpPr>
        <p:spPr>
          <a:xfrm>
            <a:off x="4865760" y="2637000"/>
            <a:ext cx="3803400" cy="3290760"/>
          </a:xfrm>
          <a:prstGeom prst="rect">
            <a:avLst/>
          </a:prstGeom>
          <a:solidFill>
            <a:srgbClr val="29ff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66"/>
                </a:solidFill>
                <a:latin typeface="Times New Roman"/>
              </a:rPr>
              <a:t>ejemplo:  </a:t>
            </a:r>
            <a:r>
              <a:rPr b="1" lang="es-MX" sz="1400" spc="-1" strike="noStrike">
                <a:solidFill>
                  <a:srgbClr val="ff0000"/>
                </a:solidFill>
                <a:latin typeface="Times New Roman"/>
              </a:rPr>
              <a:t>Aceleracion de la gravedad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66"/>
                </a:solidFill>
                <a:latin typeface="Times New Roman"/>
              </a:rPr>
              <a:t>Magnitud </a:t>
            </a:r>
            <a:r>
              <a:rPr b="1" lang="es-MX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000066"/>
                </a:solidFill>
                <a:latin typeface="Times New Roman"/>
              </a:rPr>
              <a:t>9,8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66"/>
                </a:solidFill>
                <a:latin typeface="Times New Roman"/>
              </a:rPr>
              <a:t>Dirección   </a:t>
            </a:r>
            <a:r>
              <a:rPr b="1" lang="es-MX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000066"/>
                </a:solidFill>
                <a:latin typeface="Times New Roman"/>
              </a:rPr>
              <a:t>vertical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66"/>
                </a:solidFill>
                <a:latin typeface="Times New Roman"/>
              </a:rPr>
              <a:t>Sentido </a:t>
            </a:r>
            <a:r>
              <a:rPr b="1" lang="es-MX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000066"/>
                </a:solidFill>
                <a:latin typeface="Times New Roman"/>
              </a:rPr>
              <a:t>hacia abajo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66"/>
                </a:solidFill>
                <a:latin typeface="Times New Roman"/>
              </a:rPr>
              <a:t>Unidad de medida </a:t>
            </a:r>
            <a:r>
              <a:rPr b="1" lang="es-MX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000066"/>
                </a:solidFill>
                <a:latin typeface="Times New Roman"/>
              </a:rPr>
              <a:t>m/</a:t>
            </a:r>
            <a:r>
              <a:rPr b="1" lang="es-MX" sz="11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es-MX" sz="14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512" name="12 Conector recto de flecha"/>
          <p:cNvCxnSpPr/>
          <p:nvPr/>
        </p:nvCxnSpPr>
        <p:spPr>
          <a:xfrm>
            <a:off x="6443280" y="3141720"/>
            <a:ext cx="1080" cy="1172160"/>
          </a:xfrm>
          <a:prstGeom prst="straightConnector1">
            <a:avLst/>
          </a:prstGeom>
          <a:ln w="44280">
            <a:solidFill>
              <a:srgbClr val="000066"/>
            </a:solidFill>
            <a:miter/>
            <a:tailEnd len="lg" type="arrow" w="lg"/>
          </a:ln>
        </p:spPr>
      </p:cxnSp>
      <p:sp>
        <p:nvSpPr>
          <p:cNvPr id="513" name="18 Flecha derecha"/>
          <p:cNvSpPr/>
          <p:nvPr/>
        </p:nvSpPr>
        <p:spPr>
          <a:xfrm>
            <a:off x="4351320" y="3641760"/>
            <a:ext cx="1366920" cy="438120"/>
          </a:xfrm>
          <a:prstGeom prst="rightArrow">
            <a:avLst>
              <a:gd name="adj1" fmla="val 50000"/>
              <a:gd name="adj2" fmla="val 4991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19 CuadroTexto"/>
          <p:cNvSpPr/>
          <p:nvPr/>
        </p:nvSpPr>
        <p:spPr>
          <a:xfrm>
            <a:off x="6588000" y="34131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g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AutoShape 24"/>
          <p:cNvSpPr/>
          <p:nvPr/>
        </p:nvSpPr>
        <p:spPr>
          <a:xfrm>
            <a:off x="393840" y="5592600"/>
            <a:ext cx="5546520" cy="765360"/>
          </a:xfrm>
          <a:prstGeom prst="parallelogram">
            <a:avLst>
              <a:gd name="adj" fmla="val 0"/>
            </a:avLst>
          </a:prstGeom>
          <a:solidFill>
            <a:srgbClr val="ffae0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ff0000"/>
                </a:solidFill>
                <a:uFillTx/>
                <a:latin typeface="Times New Roman"/>
              </a:rPr>
              <a:t>1. SISTEMA DE REFERENCIA</a:t>
            </a:r>
            <a:r>
              <a:rPr b="0" lang="es-ES" sz="12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Es un punto fijo en el espacio a partir del cual se estudia el movimiento de un cuerpo (carro, persona, balón, etc)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Rectangle 28"/>
          <p:cNvSpPr/>
          <p:nvPr/>
        </p:nvSpPr>
        <p:spPr>
          <a:xfrm>
            <a:off x="1547640" y="162720"/>
            <a:ext cx="6696360" cy="1006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Times New Roman"/>
              </a:rPr>
              <a:t>2. POSICIÓN</a:t>
            </a: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Representa el lugar que ocupa un cuerpo en el espacio  medido desde una sistema de referencia. En el grafico la posición inicial del auto es de 0 m, la posición del auto a los 30 s es de 20 m y la posición del auto a los 50 s es de 0 m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2066760" y="1212840"/>
            <a:ext cx="6177240" cy="4303800"/>
          </a:xfrm>
          <a:prstGeom prst="rect">
            <a:avLst/>
          </a:prstGeom>
          <a:ln w="0">
            <a:noFill/>
          </a:ln>
        </p:spPr>
      </p:pic>
      <p:cxnSp>
        <p:nvCxnSpPr>
          <p:cNvPr id="518" name="5 Conector curvado"/>
          <p:cNvCxnSpPr/>
          <p:nvPr/>
        </p:nvCxnSpPr>
        <p:spPr>
          <a:xfrm flipV="1" rot="16200000">
            <a:off x="2637000" y="5173920"/>
            <a:ext cx="942120" cy="3848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519" name="13 Conector curvado"/>
          <p:cNvCxnSpPr/>
          <p:nvPr/>
        </p:nvCxnSpPr>
        <p:spPr>
          <a:xfrm rot="5400000">
            <a:off x="2266920" y="1701000"/>
            <a:ext cx="2664720" cy="1224720"/>
          </a:xfrm>
          <a:prstGeom prst="curvedConnector5">
            <a:avLst>
              <a:gd name="adj1" fmla="val 49993"/>
              <a:gd name="adj2" fmla="val 49985"/>
              <a:gd name="adj3" fmla="val 49993"/>
            </a:avLst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pic>
        <p:nvPicPr>
          <p:cNvPr id="520" name="Picture 3" descr=""/>
          <p:cNvPicPr/>
          <p:nvPr/>
        </p:nvPicPr>
        <p:blipFill>
          <a:blip r:embed="rId2"/>
          <a:stretch/>
        </p:blipFill>
        <p:spPr>
          <a:xfrm>
            <a:off x="2627280" y="3308400"/>
            <a:ext cx="289080" cy="5522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"/>
          <p:cNvPicPr/>
          <p:nvPr/>
        </p:nvPicPr>
        <p:blipFill>
          <a:blip r:embed="rId3"/>
          <a:stretch/>
        </p:blipFill>
        <p:spPr>
          <a:xfrm>
            <a:off x="2556000" y="4532400"/>
            <a:ext cx="2872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3"/>
          <p:cNvSpPr/>
          <p:nvPr/>
        </p:nvSpPr>
        <p:spPr>
          <a:xfrm>
            <a:off x="380880" y="115920"/>
            <a:ext cx="830592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DESPLAZAMIENTO </a:t>
            </a:r>
            <a:r>
              <a:rPr b="1" lang="el-GR" sz="1400" spc="-1" strike="noStrike">
                <a:solidFill>
                  <a:srgbClr val="ff0000"/>
                </a:solidFill>
                <a:latin typeface="Arial"/>
              </a:rPr>
              <a:t>Δ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X (m)  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Es el cambio de posición que realiza un cuerpo. Es un vector que se dibuja con una flecha  que une la posición inicial con la final. 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                         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                                      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Text Box 3"/>
          <p:cNvSpPr/>
          <p:nvPr/>
        </p:nvSpPr>
        <p:spPr>
          <a:xfrm>
            <a:off x="363600" y="1413000"/>
            <a:ext cx="8305560" cy="1218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DISTACIA RECORRIDA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 (m)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Es la longitud que recorre un cuerpo sobre  su trayectoria 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                         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                                      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Text Box 3"/>
          <p:cNvSpPr/>
          <p:nvPr/>
        </p:nvSpPr>
        <p:spPr>
          <a:xfrm>
            <a:off x="351000" y="2708280"/>
            <a:ext cx="830556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RAPIDEZ MEDIA 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 (m/s)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Es el cociente entre la </a:t>
            </a:r>
            <a:r>
              <a:rPr b="1" lang="es-ES" sz="1400" spc="-1" strike="noStrike">
                <a:solidFill>
                  <a:srgbClr val="008a00"/>
                </a:solidFill>
                <a:latin typeface="Arial"/>
              </a:rPr>
              <a:t>distancia recorrida </a:t>
            </a: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y el </a:t>
            </a:r>
            <a:r>
              <a:rPr b="1" lang="es-ES" sz="1400" spc="-1" strike="noStrike">
                <a:solidFill>
                  <a:srgbClr val="007300"/>
                </a:solidFill>
                <a:latin typeface="Arial"/>
              </a:rPr>
              <a:t>tiempo empleado</a:t>
            </a:r>
            <a:r>
              <a:rPr b="1" lang="es-ES" sz="1400" spc="-1" strike="noStrike">
                <a:solidFill>
                  <a:srgbClr val="0073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73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 V= s/t</a:t>
            </a:r>
            <a:r>
              <a:rPr b="1" lang="es-ES" sz="1400" spc="-1" strike="noStrike">
                <a:solidFill>
                  <a:srgbClr val="0073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                         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                                      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Text Box 3"/>
          <p:cNvSpPr/>
          <p:nvPr/>
        </p:nvSpPr>
        <p:spPr>
          <a:xfrm>
            <a:off x="369720" y="4005360"/>
            <a:ext cx="8305920" cy="1218960"/>
          </a:xfrm>
          <a:prstGeom prst="rect">
            <a:avLst/>
          </a:prstGeom>
          <a:solidFill>
            <a:srgbClr val="6aff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VELOCIDAD MEDIA  V (m/s)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Es el cociente entre el </a:t>
            </a:r>
            <a:r>
              <a:rPr b="1" lang="es-ES" sz="1400" spc="-1" strike="noStrike">
                <a:solidFill>
                  <a:srgbClr val="008a00"/>
                </a:solidFill>
                <a:latin typeface="Arial"/>
              </a:rPr>
              <a:t>DESPLAZAMIENTO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y el </a:t>
            </a:r>
            <a:r>
              <a:rPr b="1" lang="es-ES" sz="1400" spc="-1" strike="noStrike">
                <a:solidFill>
                  <a:srgbClr val="007300"/>
                </a:solidFill>
                <a:latin typeface="Arial"/>
              </a:rPr>
              <a:t>tiempo empleado</a:t>
            </a:r>
            <a:r>
              <a:rPr b="1" lang="es-ES" sz="1400" spc="-1" strike="noStrike">
                <a:solidFill>
                  <a:srgbClr val="0073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73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el-GR" sz="1400" spc="-1" strike="noStrike">
                <a:solidFill>
                  <a:srgbClr val="ff0000"/>
                </a:solidFill>
                <a:latin typeface="Arial"/>
              </a:rPr>
              <a:t>Δ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X /</a:t>
            </a:r>
            <a:r>
              <a:rPr b="1" lang="el-GR" sz="1400" spc="-1" strike="noStrike">
                <a:solidFill>
                  <a:srgbClr val="ff0000"/>
                </a:solidFill>
                <a:latin typeface="Arial"/>
              </a:rPr>
              <a:t> Δ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t    (m/s)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                         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                                      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Text Box 3"/>
          <p:cNvSpPr/>
          <p:nvPr/>
        </p:nvSpPr>
        <p:spPr>
          <a:xfrm>
            <a:off x="351000" y="5300640"/>
            <a:ext cx="830556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VELOCIDAD PROMEDIO  Vp (m/s)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Es el promedio de las velocidades medias</a:t>
            </a: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73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Vp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= (V1 + V2 + V3 +…+ Vn )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 / n    (m/s)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                         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                                      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3"/>
          <p:cNvSpPr/>
          <p:nvPr/>
        </p:nvSpPr>
        <p:spPr>
          <a:xfrm>
            <a:off x="351000" y="765000"/>
            <a:ext cx="830556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ACELERACION MEDIA  a (m/</a:t>
            </a:r>
            <a:r>
              <a:rPr b="1" lang="es-MX" sz="1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s-MX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Es el cambio de velocidad en un determinado tiempo</a:t>
            </a: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7300"/>
                </a:solidFill>
                <a:latin typeface="Arial"/>
              </a:rPr>
              <a:t>        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= (</a:t>
            </a:r>
            <a:r>
              <a:rPr b="1" lang="el-GR" sz="1400" spc="-1" strike="noStrike">
                <a:solidFill>
                  <a:srgbClr val="ff0000"/>
                </a:solidFill>
                <a:latin typeface="Arial"/>
              </a:rPr>
              <a:t>Δ</a:t>
            </a:r>
            <a:r>
              <a:rPr b="1" lang="es-MX" sz="1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 /</a:t>
            </a:r>
            <a:r>
              <a:rPr b="1" lang="el-GR" sz="1400" spc="-1" strike="noStrike">
                <a:solidFill>
                  <a:srgbClr val="ff0000"/>
                </a:solidFill>
                <a:latin typeface="Arial"/>
              </a:rPr>
              <a:t> Δ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t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   (m/</a:t>
            </a:r>
            <a:r>
              <a:rPr b="1" lang="es-MX" sz="1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s-MX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                         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                                      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3:47:51Z</dcterms:created>
  <dc:creator>Celia</dc:creator>
  <dc:description/>
  <dc:language>en-US</dc:language>
  <cp:lastModifiedBy>GEOVANNY GONZALEZ</cp:lastModifiedBy>
  <dcterms:modified xsi:type="dcterms:W3CDTF">2014-06-27T02:43:27Z</dcterms:modified>
  <cp:revision>161</cp:revision>
  <dc:subject/>
  <dc:title>Presentación de PowerPoint</dc:title>
</cp:coreProperties>
</file>